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F78C-32C6-4B53-B182-EF28AF0E6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96CA-7AA9-450A-A71D-61199CF753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5 boxes across and 6 boxes down: total of 30 boxes.  Position: edge of table touches both left and right edge of slide.  Top of table is 1” from top of page and bottom is 1” from bottom of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 of colum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iterary term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ight in the Fores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ocabulary, Test Taking Strategies, and Anything Goes: all in Arial font, size 22 and all centered justified all in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eco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fifth column, $100 - $500 dollar amount: Arial font, size 28 and all centered justified all in orange. All hyperlink to different pages throughout slide show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al Jeopardy!! In text box, .67”  horizontal and 0” vertical from top left hand corner.  Font: Arial Black 48 point font in yellow-oran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Jeopard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75” horizontally and 7” vertically from top left hand corner.  Arial font size 24, orange color.  Hyperlink to final Jeopardy page (last page of slide show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4114800"/>
            <a:ext cx="5639040" cy="327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14400" y="7467480"/>
            <a:ext cx="5334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arning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organization: 3.4: logically organized text: each piece is chunked into its own category.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ivation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each question gets harder as you go through, therefore, the students start off with the easier information and get a sense of accomplishmen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838080" y="7391520"/>
            <a:ext cx="5639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9567-1605-47E2-BA8E-D7BA560BB9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37720" y="4343400"/>
            <a:ext cx="5334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1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838080" y="4267080"/>
            <a:ext cx="563904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38080" y="69343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 Motiv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there is immediate feedback to the students.  Setup in a game format making it more competitive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cep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rate of instruction is slow enough for students to determine the answer, yet quick enough so that they do not lose their focus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all objects are aligned: the wording to the left and the picture to the right, based on the last letter or number in the tit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838080" y="6934320"/>
            <a:ext cx="56390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F0FC-E7D5-42F2-829B-01E5FD3518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2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4191120"/>
            <a:ext cx="563904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914400" y="7010280"/>
            <a:ext cx="5562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tiva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sitive Impres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5.2- Text on the page is kept to a minimum so that students wont be overwhelmed. Well organized and familiar with type size, style, etc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adable Style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- Passages are small and to the point. Wording is familiar and comfortable; not over their heads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eti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slides have the same style of text and the same background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ment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wording objects are aligned to the lef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838080" y="6934320"/>
            <a:ext cx="563904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9C5C-9AD3-4D0C-B143-31C84EBE53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397-DE3D-427B-BBBA-49793A1E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742-7E0D-4874-B235-8D044928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507-0450-4A05-A749-B0541AD1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AC7-5AC2-4D68-9EE8-FEA6CDD3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01A6-C27B-46B9-9C80-E6010514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EAAA-3318-49D8-97D1-DCFC8DCD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3C77-0220-47F6-9282-9332B929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9E7D-04DC-48CC-B32D-BAD9F346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EAC2-1130-4E4D-9CF2-D78A278B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BD2B-F86C-4647-80E6-8CC89BD0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2349-FCD9-42CE-9E31-72AA414A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D9F-2AAF-409D-8C08-7BBCD674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BCC2-9C39-4E15-86F0-8952CF5F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42C1-2799-4E82-BDB4-651D60A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F206-1C7C-4BA8-8DF6-8C01B70E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3285-51EE-48D8-9183-3D28AC53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92A7-CB71-4F5E-97DE-CF3D7BE1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E99-25D9-4045-87B9-1F308683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CB6-CE34-42E9-BBE7-2C5A4C8B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847-5D8C-42CB-8F7B-B1494EA5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7B6-0B29-47A3-89EF-07FA1A5B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985-55D2-4F23-9A51-8C9429B2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70B-378C-424C-B048-6150BE86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B9D-FC3D-47FF-B2EE-86A6F7F9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9CDD-E5FD-4F98-ABA6-5A3184E7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5869-63B4-42A0-BFCD-126BD750DB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JEOPARD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14400"/>
          <a:ext cx="9144000" cy="5062680"/>
        </p:xfrm>
        <a:graphic>
          <a:graphicData uri="http://schemas.openxmlformats.org/drawingml/2006/table">
            <a:tbl>
              <a:tblPr/>
              <a:tblGrid>
                <a:gridCol w="1844640"/>
                <a:gridCol w="1924200"/>
                <a:gridCol w="1717560"/>
                <a:gridCol w="1843200"/>
                <a:gridCol w="1814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ustrial Revol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olocaust/ Ma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cient Geograp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urrent Ev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133"/>
          <p:cNvSpPr/>
          <p:nvPr/>
        </p:nvSpPr>
        <p:spPr>
          <a:xfrm>
            <a:off x="34290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8d43"/>
                </a:solidFill>
                <a:uFillTx/>
                <a:latin typeface="Arial"/>
                <a:hlinkClick r:id="rId26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global competition between the United States and the Soviet Union known a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66680" y="43434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ld W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4038480"/>
            <a:ext cx="1268280" cy="28195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14400" y="7747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ars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id the Soviet Union collapse (1789, 1991, 2001) and what type of economic system did the Soviet Union ha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66680" y="45720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991and Communism?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13600" y="4343400"/>
            <a:ext cx="1130400" cy="2514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14400" y="7747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ars -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867960"/>
            <a:ext cx="74678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locaust/Maps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azi’s plan to kill all European Jews known 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66680" y="373392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, “Final Solution?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124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locaust/ Maps- $2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term known as when an entire group of people is wiped ou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219320" y="3733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enoci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809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locaust/ Maps - $300 (Daily Double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90720" y="55339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5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3"/>
          <a:stretch/>
        </p:blipFill>
        <p:spPr>
          <a:xfrm>
            <a:off x="0" y="609480"/>
            <a:ext cx="8626320" cy="62485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8"/>
          <p:cNvSpPr/>
          <p:nvPr/>
        </p:nvSpPr>
        <p:spPr>
          <a:xfrm>
            <a:off x="25221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984680" y="44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3279960" y="29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419400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3809880" y="312408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3660480" y="403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568440"/>
            <a:ext cx="8686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locaust/ Maps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95280" y="533412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5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3"/>
          <a:stretch/>
        </p:blipFill>
        <p:spPr>
          <a:xfrm>
            <a:off x="228600" y="0"/>
            <a:ext cx="83725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2522160" y="457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3661200" y="304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4727880" y="16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228888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3813120" y="2514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3660480" y="403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487980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78912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locaust/ Maps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752480" y="5486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6019560" cy="2786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Photo 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4606920"/>
            <a:ext cx="19810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average number of people living in a square mile  or square kilometer known 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066680" y="44956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opulation densit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Renaissance invention made books more numerous and less expensive, thereby encouraging more people to learn to read and wri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66680" y="4952880"/>
            <a:ext cx="601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What is the printing press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lines measure north and south of the equator?  (Example: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˚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78˚W is the absolute location of Bedford, P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143000" y="4648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lines of Latitu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3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1900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dustrial Revolution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id the Industrial Revolution beg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52480" y="3581280"/>
            <a:ext cx="297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reat Britain or England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ugly-pig-new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38680" y="4522680"/>
            <a:ext cx="350532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 the 4 of the 5 counties that surround Bedf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143000" y="3505320"/>
            <a:ext cx="579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omerset, Cambria, Blair, Huntingdon, and Fult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990720" y="8348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 - $4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2" name="Picture 5" descr="funny-pictures-ugly-hog-1J7.jpg"/>
          <p:cNvPicPr/>
          <p:nvPr/>
        </p:nvPicPr>
        <p:blipFill>
          <a:blip r:embed="rId2"/>
          <a:stretch/>
        </p:blipFill>
        <p:spPr>
          <a:xfrm>
            <a:off x="7010280" y="3968640"/>
            <a:ext cx="2133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ce the following events in order:  Renaissance, World War 2, Ancient Greece/ Rome, Middle 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990720" y="37339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cient Greece/ Rome, Middle Ages, Renaissance, World War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5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6" name="Picture 5" descr="piglip.jpg"/>
          <p:cNvPicPr/>
          <p:nvPr/>
        </p:nvPicPr>
        <p:blipFill>
          <a:blip r:embed="rId2"/>
          <a:stretch/>
        </p:blipFill>
        <p:spPr>
          <a:xfrm>
            <a:off x="6781680" y="4240080"/>
            <a:ext cx="23623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1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week, the Obama Administration will change travel rules to make it easier for Americans to visit what communist nation located 90 miles awa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295280" y="533412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Cub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19112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umber one film at the box office last weekend:  Another Year, The Green Hornet, The Ri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066680" y="487692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Ri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 both Super Bowl starting quarterback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1148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Roethlisberger and Rodger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nation did drug violence recently result in 27 people dying in one weekend in the resort city of Acapulc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66680" y="43434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xic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alex_no_stash_no_background"/>
          <p:cNvPicPr/>
          <p:nvPr/>
        </p:nvPicPr>
        <p:blipFill>
          <a:blip r:embed="rId1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t Friday marked the 2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niversary of what shuttle explosion that took the lives of seven astronau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447920" y="4724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lleng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al Jeopar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 thesis statement out of the questions below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609480" y="350532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True Son was frightened to return to the Butler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426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dustrial Revolution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did the Industrial Revolution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. 300s               C. 17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. 1500s             D. 19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48769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1700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alex_no_stash_no_background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4186080"/>
            <a:ext cx="1200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252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ndustrial Revolution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ldren as young as age seven worked how many hours per day and how many days a week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44956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2 to 15 hours a day, six days a wee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5280" y="4419720"/>
            <a:ext cx="109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41904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dustrial Revolution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in the blanks.  The Industrial Revolution was a time when people used _________ and new methods to increase ______________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6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82000" y="4495680"/>
            <a:ext cx="1062000" cy="23623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1536840" y="434340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chinery, Productiv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8780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ndustrial Revolution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invention by James Wat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3733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team Engi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ugly+pig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56520" y="4495680"/>
            <a:ext cx="2787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74304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Wars -$10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war began in 1914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95280" y="50292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WW I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0400" y="4648320"/>
            <a:ext cx="993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was blamed for starting both World War I and World War I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43434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erman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3840" y="3809880"/>
            <a:ext cx="1370160" cy="30481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14400" y="7747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ars - $200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nation lost the most lives in World War 2? 27 million were kill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371600" y="38862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oviet Un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914400" y="7747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ars 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8:01:04Z</dcterms:created>
  <dc:creator>Student</dc:creator>
  <dc:description/>
  <dc:language>en-US</dc:language>
  <cp:lastModifiedBy>Tom Otis</cp:lastModifiedBy>
  <dcterms:modified xsi:type="dcterms:W3CDTF">2011-02-03T20:17:58Z</dcterms:modified>
  <cp:revision>63</cp:revision>
  <dc:subject/>
  <dc:title>Jeopardy</dc:title>
</cp:coreProperties>
</file>